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28A-5C6B-404D-8E74-BB35E837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84C-215A-43F9-99AE-E083072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1EE-E8F2-4A0B-BF53-300D2BE4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7F2-0729-41F5-96BD-3ED523A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D49-04C1-434C-8965-C8CB570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CFF-6E3D-461B-95CA-8039FAC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A17-EED9-4447-AE06-F7BF614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6FA-C282-4D21-876D-876BAFE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164-2CF4-45B3-8983-44E8492C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291-7643-4F1A-B218-9AAE26D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663-B7DB-4F39-A870-4506EE0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5BA-E4E4-4276-8F28-A2E3D3C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56E-0CA9-4AF5-807E-243B64CB5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ratio of boys to girls in a class is 5:4. If there are 27 students in the class, how many are bo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. Jamie has saved $1080 to spend on his vacation. He plans to spend $120 a day. By the end of which day will Jamie have no money le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. The volume of a rectangular box is 48cm</a:t>
            </a:r>
            <a:r>
              <a:rPr b="0" lang="en-US" sz="32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. What could be the dimensions of the box? Give at least 3 possi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yle is driving from home to his friend’s house, a distance of 720km. He plans to drive 80km/h, take 1hour for lunch and 2 15 minute breaks. He must arrive at his friend’s house by 7:30. What’s the latest he could leave to get there on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5. A circle has the same area as a square with side length 10cm. What is the radius of the cir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. A picture is 5cmx7cm.It is enlarged by a scale factor of 3. What are the new dimens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whoosh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Monotype Corsiva"/>
              </a:rPr>
              <a:t>Assessment Review</a:t>
            </a:r>
            <a:r>
              <a:rPr b="0" lang="en-US" sz="5400" spc="-1" strike="noStrike">
                <a:solidFill>
                  <a:srgbClr val="660033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tio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pen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1774800" cy="213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whoosh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7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7. List 2 ways the integer -24 can be expressed as a product of 3 integ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8. A jar contains 10 red, 5 blue and 15 green marbles. One marble is selected at random. What’s the probability that it is NOT 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9. For the following set of numbers, the mean is the same as the median. Which number i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___, 6, 9, 11,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) 4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) 5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) 6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)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5a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5a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5a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5a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5a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6:33:21Z</dcterms:created>
  <dc:creator>krista.graham</dc:creator>
  <dc:description/>
  <dc:language>en-US</dc:language>
  <cp:lastModifiedBy>krista.graham</cp:lastModifiedBy>
  <dcterms:modified xsi:type="dcterms:W3CDTF">2008-10-03T13:52:10Z</dcterms:modified>
  <cp:revision>6</cp:revision>
  <dc:subject/>
  <dc:title>Assessment Review </dc:title>
</cp:coreProperties>
</file>